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9690-4608-49BC-AD96-EC83D7E9E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BB0B-C686-408D-B36F-81070927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DAB4-390D-4192-AD42-8F034B6AD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CB78-33D7-4956-B02B-7679ED52E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74E0-8AA5-44E0-BD87-3F45C2DA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0B66-C081-4428-9964-DB60D4B0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F42E-92A9-4719-A445-5F64479C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D43E-F95C-44DD-AFD1-F9B13B05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0A16-B4AF-4DF8-892B-51C4A0C4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C072-8743-4ED9-AFD5-48BF9F91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18F3-CD54-4D55-B6E2-95B66236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8D2B-690B-432A-8845-0A5A3188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6A80-E393-4A16-875E-4B2FDBF1A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Door crossing vide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ccff"/>
                </a:solidFill>
                <a:latin typeface="Arial"/>
              </a:rPr>
              <a:t>Omnidirectional camera view and remapp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52480" y="762120"/>
            <a:ext cx="2895840" cy="2895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34120" y="1066680"/>
            <a:ext cx="2361960" cy="2362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295280" y="4114800"/>
            <a:ext cx="6477120" cy="981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295280" y="5410080"/>
            <a:ext cx="6477120" cy="981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980360" y="228600"/>
            <a:ext cx="252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obot original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57080" y="533520"/>
            <a:ext cx="24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ccff"/>
                </a:solidFill>
                <a:latin typeface="Arial"/>
              </a:rPr>
              <a:t>Ground plane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57440" y="3657600"/>
            <a:ext cx="210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ccff"/>
                </a:solidFill>
                <a:latin typeface="Arial"/>
              </a:rPr>
              <a:t>Panoramic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R.C.</cp:lastModifiedBy>
  <dcterms:modified xsi:type="dcterms:W3CDTF">2000-10-25T10:41:15Z</dcterms:modified>
  <cp:revision>11</cp:revision>
  <dc:subject/>
  <dc:title>Door crossing videos</dc:title>
</cp:coreProperties>
</file>